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47B0-ED6B-4DB8-8AB4-29B990E9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114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24E-5648-4111-A7D0-B762F789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944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5CA-16A8-41E4-92A2-DC057E74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344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776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344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776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1D9-512D-4794-9C4A-A7003EAE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967A-2EA6-45A7-B9D8-FD547E8C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8808-7138-4BA3-82A3-44E4D7CC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9B75-A05D-4C8F-9C59-0879EF67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52DF-3195-4266-BA4C-0ADEF524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430A-6672-4268-8CAA-F98DE988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693396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DA61-739D-45F9-A4B1-4A570AF9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5ED-3707-45DC-ADB1-05A7444C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6D7-4CEF-4758-A406-5691B30E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944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9D7C-00F5-42C6-9708-9E0E0D08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401D-E11F-4A2B-A14B-0C117E7B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114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DAB1-5201-4865-BB2F-5A35387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8944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B97B-7B0A-4B29-B18F-A3DF5D46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344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37760" y="243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344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37760" y="3114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0CEE-C419-46AB-8238-621FA3D9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A14-D793-4A0A-B59F-CB23A8B3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849-0AFC-45F6-A081-C78B55C2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BC2-9347-4DB3-BE3A-6A32AE7F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693396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A6D-1F54-4E7F-8CD7-23EB005A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B78-6DCF-4D67-AD54-0469D72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9440" y="3114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223-76B4-4C19-B0FC-D5B0245C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9440" y="243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114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8AD-9A66-49EA-8965-C2C230B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7DDD-3187-4940-8CC4-1394E1E9B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7307-D617-4CB6-AE83-971A09F87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933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14:09Z</dcterms:created>
  <dc:creator>Bonnie Ritchey</dc:creator>
  <dc:description/>
  <dc:language>en-US</dc:language>
  <cp:lastModifiedBy>Bonnie Ritchey</cp:lastModifiedBy>
  <dcterms:modified xsi:type="dcterms:W3CDTF">2004-05-21T03:14:33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